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60B-32C4-4E7D-B0F1-CBC7AE9B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DEE-2DB2-4AE4-8ADD-2EBBB34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D73-8E32-420A-B439-93A6EEBD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665-8238-4721-B25A-F85198BC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A0B-AD51-4904-893C-8C6EC255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59A-EC3A-4B73-8E43-8289795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A60-8B2A-4ECB-AE6B-A9BBE98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DF7F-4649-4D3C-BB1D-E015F3E4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5A0-B0DD-40E6-86A7-055C02E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300A-5B60-4E3A-B259-F0A8A1C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FC03-7A83-4E6A-B974-519B1F1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2B5-FBCC-4968-BDF0-CC115A5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D6FD-D5A3-4BD9-886D-B73264D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2BF4-95A3-42B8-91B8-E7EBCC1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6844-F6DD-4EAA-9AA1-587808A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355-B845-40FD-81A2-8491F265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4145-5595-4DE7-BFF9-3071F95B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DC30-79C3-49D2-A29F-62F39CE8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C0B5-A1B1-495A-A1DE-0127D59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59AD-2CCB-4272-A3AC-A213596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0F4B-FC2B-48D1-A7D7-1955104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C702-E3C0-4AE5-BAAD-2BB74DD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AE3-A86C-48C6-AAD7-F156D92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F266-9FB1-459F-A1C2-CF92D0CC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A25A-1FFF-4453-A605-CC128AD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8E6B-221F-42B7-A374-043FE7B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004C-D691-418D-A463-A7DD2A4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19B8-B9BB-45A4-8D6A-A31244B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20F5-DFDF-4E24-A6BA-9728090F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78A6-3909-416F-B023-2FE1DD2A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1277-C6DD-4BC5-848F-53A1F4AF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E7FF-7F50-4E97-AEAB-3653A87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FEEB-128A-43A4-8753-3FFC56D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A7D-97E0-48E4-9213-B5D9C42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FA627-5FD9-4ACE-A534-C8768A6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55AE-406C-4173-B2B3-2953857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FED0-5C9A-4550-B495-981C801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58C3-B946-422C-A478-E5805CB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86C0-1AAE-4E1D-BDF9-C0F5842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1F03-6573-4529-B157-E072373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D0B1-C3B6-4309-9FF5-BA14D36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F8AE-B9BC-4047-88C4-59B2A64A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E66E-5CC7-4EED-8568-1B9023F4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5D45-19B1-49C1-AF3F-53BA5619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2A1-EC82-40F9-B492-ACAE761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A5CE-EFD0-456A-88D4-02337575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5D00-E544-4F76-9D2A-DD810D7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8712-5711-407D-9A61-5ACCA98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CADB-DAE8-4B52-89D8-FEFC608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380D-8704-42D2-A127-CCB71CF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5C2D-4460-43C4-9141-6D53849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DD44-13A0-485E-A153-9C56A43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1303-DE54-4479-A3E8-F2CD3D1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2A6E-5F8A-4135-A93A-C16012A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5243-A0E4-487F-83D2-87CDA45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765-B341-48B6-99D9-9885762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A936-9638-4B23-A396-FEF6D6DB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EB76-45CF-4B5A-B561-5BB8E3E9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CA44-89AF-49D4-9B86-A361360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B1B6-BD12-4910-A204-BB53B0E4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7F82-3F46-4212-A544-A3761EC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3E298-AB8B-4E40-BDC3-E2929C0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3BB4-1570-4AE8-AA78-FDE9BDA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BE16C-9E22-4AEB-BD7B-02D9708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CBDD-BD69-43E6-BA85-81B270B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6716-442F-4104-BD80-A3EB4CD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94E-F607-45FB-9BAE-35D60F2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33B2-7282-4F32-AD53-BA9D2F3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4911-D3B2-48CC-A26D-9FF3B75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02AF-5891-4889-A854-749ABD0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6FEC-0BA8-4128-8BBE-9BCEB3EC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BBE05-25F9-4E2D-9EE5-42BFEE79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649E-FCE3-4547-80B2-7909538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B1DDB-DA32-4407-BEB5-E75E576D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DCD0-A301-415A-B3ED-D00A44E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6AE5-04F2-408D-BE1A-C6BA1A31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1B9B-94C4-4E57-97EE-D63FF134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44B-A58B-4570-AA1C-F7FE5B48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611A-17DE-48F8-863C-98E3C6A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F6F4-C7AD-4856-BE9A-411760F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DFCE-D86D-47A6-8263-EC2FF4E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2BAC4-D1AC-4333-97C1-45BE1F48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09F6-8D63-48D3-A0AB-E30EA9CF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440-6C58-4328-A858-B4A47B9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1D27-FC24-4E64-A741-B02BB6AF87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16B-F5BB-43AC-A766-B6460AD21D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0AE-27EC-434B-BB65-DE7E8D655A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1DE-D1BA-421B-92EB-AAFE3D0137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DD72-2B9C-4469-8143-CFDEF48EC4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F508-A9FF-4208-B9D7-AAB65F7B5E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BD8-88E1-4F40-8AE3-74F5281613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6blafalcone.wikispaces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spired6bwriters.wikispaces.com/" TargetMode="External"/><Relationship Id="rId2" Type="http://schemas.openxmlformats.org/officeDocument/2006/relationships/hyperlink" Target="http://www.lpsk12.org/" TargetMode="External"/><Relationship Id="rId3" Type="http://schemas.openxmlformats.org/officeDocument/2006/relationships/hyperlink" Target="http://www.lpsk12.or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6blafalc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32d2e"/>
                </a:solidFill>
                <a:latin typeface="Gill Sans MT"/>
              </a:rPr>
              <a:t>6</a:t>
            </a:r>
            <a:r>
              <a:rPr b="0" lang="en-US" sz="4300" spc="-1" strike="noStrike" baseline="30000">
                <a:solidFill>
                  <a:srgbClr val="c32d2e"/>
                </a:solidFill>
                <a:latin typeface="Gill Sans MT"/>
              </a:rPr>
              <a:t>th</a:t>
            </a:r>
            <a:r>
              <a:rPr b="0" lang="en-US" sz="4300" spc="-1" strike="noStrike">
                <a:solidFill>
                  <a:srgbClr val="c32d2e"/>
                </a:solidFill>
                <a:latin typeface="Gill Sans MT"/>
              </a:rPr>
              <a:t> Grade Language Art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2</a:t>
            </a:r>
            <a:r>
              <a:rPr b="1" lang="en-US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 Semester – Reading Outcomes of Understanding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ill Sans MT"/>
              </a:rPr>
              <a:t>INQUIRY QUESTION: What does reading do for me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sight for Wri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path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nfiden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nse of Aesthetic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re to Advocat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crease in Cognitive Stamin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Recollection and Intent to Reappl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thers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ss  - Workshop Model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ach class period will begin with a cla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read-aloud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ich serves as a time to model reading, thinking, and comprehension behaviors and strategies which students will then practice and apply to their self-selected novels. Following the class read-aloud, we engage in alternately a reading or writing mini-lesson which provides an opportunity for direct teaching and practice of a skill or concep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shop – Mentor Tex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ing a reading and writing workshop model, our class instruction will include daily mentor text which can include, short stories,  Jr. Great Books, news articles, blog posts, magazines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ove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nd a variety of textual excerpts that will serve as… models for author’s craft and cont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ading Di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itionally each student will be completing a reading log of books of their choice which will require a minimum of  20 minutes a day outside of schoo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quarter: literary gen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minimum - 5 different genre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quarter:  award winn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minimum - 5 different award winners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ctive Noteboo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9492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student will maintain their Language Arts INB with class notes and resource materi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pired Reading and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students will be publishing their works, reading, writing, researching, presenting and conversing about literature using our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class wiki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LPS Google Doc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lpsk12.or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/Spelling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addition to specific content vocabulary, we will focus on the origin, use of and application of 5 prefixes, suffixes or roots per week.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ccelerated Language Arts will also use the Sadlier-Oxford Level B Spelling/Vocabulary Workshop – alternating: Week 1 – Students are responsible for the spelling of the 20 vocabulary words in the unit. Week 2 – Students are responsible for the vocabulary exercises reinforcing the definition, pronunciation, grammatically correct usage, synonyms, and antonym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mon Assess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FOCUS WRITING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Show Not Tell Descriptive Writing - Testing Window 9/20 – 9/29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Persuasive Writing – Testing Window 12/06 – 12/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How - To Technical Writing – Testing Window TB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Poetry Techniques – Testing Window TB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LA FOCUS READING COMPREHENSION GOALS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5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Semester – Thinking Strategies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Gill Sans MT"/>
              </a:rPr>
              <a:t>INQUIRY QUESTION: How does my thinking help me to understand?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etacognitio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chem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Question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rawing Inferenc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etermining Importa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ensory Imager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ynthesiz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blem Solv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0:19:18Z</dcterms:created>
  <dc:creator>ITSUser</dc:creator>
  <dc:description/>
  <dc:language>en-US</dc:language>
  <cp:lastModifiedBy>ITSUser</cp:lastModifiedBy>
  <dcterms:modified xsi:type="dcterms:W3CDTF">2010-10-19T15:14:02Z</dcterms:modified>
  <cp:revision>6</cp:revision>
  <dc:subject/>
  <dc:title>6th Grade Language Arts </dc:title>
</cp:coreProperties>
</file>